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BF0-39CD-4B9A-888B-57287E45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D06-CCB7-43F2-9196-84C1E311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B57-C893-4326-81D9-FC78C8D2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263-C2F5-48DF-B521-F07B036F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802-CEAF-4C28-BD93-5ED69F95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030-1603-4616-8972-A4E9DA05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151-C6D6-4C35-842F-50ED5636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00C-946F-4EE9-9E2E-6B60676D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683-A4AF-46D4-9EED-0C634F93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389-B627-4567-8C49-0BB7D352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033-9320-4725-AD2E-087603EF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91A-61C4-4AB2-9E35-5506BA51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EE5F-9144-4A64-9DDC-67D41FC98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ing the Role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drick Griffith discovered that a factor in heat-killed bacteria, disease-causing bacteria can “transform” harmless bacteria into ones that cause disease. (ge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wald Avery  determines that genes are composed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sey and Chase: concluded that the genetic material of the bacteriaphage was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win Chargaff: Chargaff’s Rule A=T G=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salind Franklin: using x-ray diffraction studied the DNA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son and Crick: Developed the double helix model of D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s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32120" y="2075040"/>
            <a:ext cx="5236920" cy="341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94920" y="16416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12640" y="14889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imid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6320" y="2324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4240" y="2324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a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09520" y="24004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t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04440" y="24004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y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75800" y="51465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66360" y="52992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oxyribose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040" y="2631960"/>
            <a:ext cx="16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otide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ing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tion: the process by which DNA makes a copy of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NA molecule separates into two strands, then produces two new complimentary strands following the rules of base pairing. Each strand serves as a template for the new str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Replication Occ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7880" y="1806480"/>
            <a:ext cx="8428320" cy="365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6280" y="445788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2160" y="438156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86240" y="438156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38840" y="36226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2000" y="327672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A Polyma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62360" y="186696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A polyme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53240" y="30891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43400" y="529596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09000" y="537228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st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523880"/>
            <a:ext cx="7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70920" y="15620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st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Replication Occ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A polymerase unzips the DNA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nucleotides bind to th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A ligase joins the nucleotides to the temp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A polymerase is also used as a proofreader, to look for mista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ication is termed semi-conservative since each copy has a parent strand attached to new str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7:01:30Z</dcterms:created>
  <dc:creator>Perquimans County Schools</dc:creator>
  <dc:description/>
  <dc:language>en-US</dc:language>
  <cp:lastModifiedBy>Perquimans County Schools</cp:lastModifiedBy>
  <dcterms:modified xsi:type="dcterms:W3CDTF">2005-03-09T17:52:26Z</dcterms:modified>
  <cp:revision>5</cp:revision>
  <dc:subject/>
  <dc:title>DNA</dc:title>
</cp:coreProperties>
</file>